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7E2A-C995-494C-A20F-EBD23D524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twinkle_toes_engineering.home.comcast.ne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442-96D6-4BB0-A0F6-F5C2DB6A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23A-A1A4-4898-9642-1DB5244C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AB4-A37A-4DFA-9D02-96B659A3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E9B-5A01-4DD7-AD44-7E708A66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FB7-6A2C-4EF4-BB81-A4DE397A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82A-0A8F-448D-AA7B-D81050EB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654-F131-4806-A9AF-956E5730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2F5-69CA-4968-B1CC-30F83962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2C3-4261-4D71-A59C-B818A77A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DCB-9BF1-4C2B-8DB8-8FE8CC39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359-FF09-456F-A891-C168F69F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976-F188-4966-836A-65102F4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4663-C10F-4515-9032-1ACB63474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fi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P re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0960526/student_view0/chapter5/animation_quiz_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---&gt; 4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&gt; 12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&gt; 3 ATP + 2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8480" y="2819520"/>
            <a:ext cx="57470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get that Photosynthesis song out of your head and fill it with a photosynthesis rap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www.youtube.com/watch?v=pE82qtKSSH4&amp;feature=end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you might prefer this video for the r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www.youtube.com/watch?v=Wi60tQa8jfE&amp;feature=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2-11-01T09:34:18Z</dcterms:modified>
  <cp:revision>26</cp:revision>
  <dc:subject/>
  <dc:title>PowerPoint Presentation</dc:title>
</cp:coreProperties>
</file>